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7E67F-8290-4048-8BA2-7FA908ED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24371-1D8F-4AEF-BC38-7000548F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CB8E-FF3F-4FD6-8B72-2C1AEBB9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F0AAF-83FB-46A7-8779-20611297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D2A7-CE9A-4112-A0CE-95B6D36A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5B28-57C8-4C4A-B384-A65FB9BA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C560-0F71-49CE-834C-0AE1A9C3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2352-B404-4EF5-9967-7EE637B7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7830-AB7C-4E34-BC25-E270AF29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DE53-ACB9-45AE-80A4-55307EB4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CB72-C479-4B7B-8AD4-21FC2559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A0701-4197-4C0E-A2B5-1B60A57C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5030-8628-41FD-8B24-1A36132B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AC82-D02A-4BE8-B5B0-6E840A75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41F2-2E97-4B3D-8EF8-9015F0F6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D817-EBD9-400E-B048-CED641FF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B972-DB90-4A35-9093-3395795C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09B62-1E3C-47E8-8075-A0A632AD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1DE87-609F-4502-B0C5-E6599537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DCD1F-BC3D-436D-B9EC-46F6EDCB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60F9B-2B6D-4FEC-AEE4-4E7E3DDA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61277-F839-468D-B153-9EA1494A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71DE7-D70D-4982-B1C3-4D92B4A3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BC713-8AD8-4E55-85F6-D929A9A1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7564-B738-422B-831F-2CBCA00D13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24E8-51D7-4922-97E6-4393DEAF89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inting Slid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4400" y="57913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1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1" y="20200"/>
                </a:lnTo>
                <a:lnTo>
                  <a:pt x="66091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1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p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914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gns of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57150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46400" y="91440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gns of Winter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228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6:32:01Z</dcterms:created>
  <dc:creator>jnatale</dc:creator>
  <dc:description/>
  <dc:language>en-US</dc:language>
  <cp:lastModifiedBy>jnatale</cp:lastModifiedBy>
  <dcterms:modified xsi:type="dcterms:W3CDTF">2009-02-19T18:31:59Z</dcterms:modified>
  <cp:revision>3</cp:revision>
  <dc:subject/>
  <dc:title>Adding Text</dc:title>
</cp:coreProperties>
</file>